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BD08-1D28-4B6B-971D-413145E2FC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mnitel: Italien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fostrada: Italienischer Inten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range: Britischer Mobilfunk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Arcor: Deutscher Festnetzdienst- und Festnetztelekommunikations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Passo: Anbieter für Verkehrsführ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egetel: Französischer Funk- und Festnetz-Anbe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ele.ring: Österreichischer Internet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.tel.o: Call by Call Anbieter in Deutsch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SIS Multimedia 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rmany.net: Deutscher Internet 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nnesmann Eurokom: Internationaler Funk- und Festnetz-Anbi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DE3-CF83-4987-8C7B-232AE378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472-E4A2-4B07-BDDC-FA0A98FD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8E4-B987-48C7-8D6E-ACD85E6A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59A-3555-4A6A-B588-A4AD77D04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5F1-6990-4475-ACED-4D4D83E6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0D8-F6F3-4178-B9A2-F98E3EB9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D7F-07ED-4443-8E80-DD7327F6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EF87-70F1-4078-AEE5-A8DE1AB7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CCF-72FC-42CC-930B-6F08A1D0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5BF-88D1-4A4E-88C3-3E785862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4D3-140A-4EDF-A650-12557915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C95-0F11-4B28-B2DB-5D1F52CE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1802E-66DD-4C6E-92AE-BBF1C100FC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week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5335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3200400"/>
            <a:ext cx="457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nnesmann%20logo" descr=""/>
          <p:cNvPicPr/>
          <p:nvPr/>
        </p:nvPicPr>
        <p:blipFill>
          <a:blip r:embed="rId2"/>
          <a:stretch/>
        </p:blipFill>
        <p:spPr>
          <a:xfrm>
            <a:off x="4572000" y="4257720"/>
            <a:ext cx="4267080" cy="1990800"/>
          </a:xfrm>
          <a:prstGeom prst="rect">
            <a:avLst/>
          </a:prstGeom>
          <a:ln w="0">
            <a:noFill/>
          </a:ln>
        </p:spPr>
      </p:pic>
      <p:pic>
        <p:nvPicPr>
          <p:cNvPr id="51" name="vodafoneAirTouch%20logo" descr=""/>
          <p:cNvPicPr/>
          <p:nvPr/>
        </p:nvPicPr>
        <p:blipFill>
          <a:blip r:embed="rId3"/>
          <a:stretch/>
        </p:blipFill>
        <p:spPr>
          <a:xfrm>
            <a:off x="304920" y="1523880"/>
            <a:ext cx="4267080" cy="1608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94360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imes New Roman"/>
              </a:rPr>
              <a:t>By Christopher Houben EBS 2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egins an immense publicity campaig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acts with its own campa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3. Dec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repeats its offer of giving 5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Deadline for this offer is set to 7. Februar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1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„Wall Street Journal“ reports about a possible joint-venture between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8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nfirms talks about acquisitions within AOL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0. Jan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Vivendi give notice about a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1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nounces to increase its o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3. February 2000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O Klaus Esser announces the friendly takeover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Air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inal share exchange rate was set to 58,96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hare, which is the equivalent of 380 b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whole advertising campaign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ost about 50 million D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consequ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ectors Engineering and Automotive will be demer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recent takeover of Orange by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has to be un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french company Vivendi will recieve half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Cegetel shares (which is 7,5%) as promised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71800" y="53316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What if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smaller growth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as supposed to have the better partner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60% of Western Europe‘s market volume was supposed to be in the hands of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n the long run,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ould have grown faster and would have had the bett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tock capitalization will be worth 70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will be the 4. largest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t will serve 42 million mobile phone customers in 25 differen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Bild%20connecting%20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582640" cy="2822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Headquaters in Newbury/Great Britain and Düsseldorf/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Internet and the conventional telephone network activities will be coordinated in Düsseldorf, the rest in Newb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Until now 88,91% Mannesmann shareholders accepted Vodafone‘s of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map%20-%20from%20Barrett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72400" cy="5425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new company and its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1920" y="6324480"/>
            <a:ext cx="364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Vodafone Presentation of 23. Dec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Future Pl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is constantly looking for opportunities to enlarge and/or cooperate with other foreign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concentrate more on the mobile phone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will found a new internet company with Vive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9907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What do you think of „hostile“ takeover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katz+mus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63248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wo companies and its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shareholder stucture and the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takeover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consequences and „What if...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he new company and its future p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as the takeover of the traditional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company by the relatively young </a:t>
            </a:r>
            <a:r>
              <a:rPr b="0" lang="de-DE" sz="32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 AirTouch justifiabl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Will there only be a couple of mega transnationals ruling the whole future business worl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24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ewsweek‘s Internet 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newsweek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ternet-Archiv of Wirtschaftswo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( www.wiwo.d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rtschaftsmagazin „Börse-Onlin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liner Morgen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üddeutsche Zei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890, Foundation of the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„Deutsch-Österreichische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Mannesmannröhren-Werke AG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  <a:ea typeface="Arial"/>
              </a:rPr>
              <a:t>“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in Ber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70, Outsourcing and investment in new areas such as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 1990: Establishment of Germany‘s first private mobile phone network D2: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Mobilfunk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7 on, concentration on the Telecommunication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annesmann%20logo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2286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Mannesmann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lecom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305920" cy="4443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88600" y="6031080"/>
            <a:ext cx="418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Source: Mannesmann Homepage www.mannesmann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1980, 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beg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s a division of Racal Electronics P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, under the name of Racal 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January 1985, „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“ is launched as UK‘s first cellular mobile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From 1993 on, Formation of partnerships all over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30 June 1999,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merges with the US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irTouch Communications Inc.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d since it is known as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Vodafone AirTouch P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vodafoneAirTouch%20logo" descr=""/>
          <p:cNvPicPr/>
          <p:nvPr/>
        </p:nvPicPr>
        <p:blipFill>
          <a:blip r:embed="rId2"/>
          <a:stretch/>
        </p:blipFill>
        <p:spPr>
          <a:xfrm>
            <a:off x="5029200" y="457200"/>
            <a:ext cx="2425680" cy="914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3353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Histor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23960" y="3805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9900"/>
                </a:solidFill>
                <a:latin typeface="Times New Roman"/>
              </a:rPr>
              <a:t>Vodafone AirTouch‘s</a:t>
            </a: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 Telekommunication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ertig%20fertig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7149960" cy="4191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056960" y="6248520"/>
            <a:ext cx="354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Source: Berliner Morgenpost 5. Februar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35049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Privat: 3,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anks:85,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Investmenttrusts and –fonds: 1,0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Companies: 2,6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s: 6,66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621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Hutchison Whampoa: 10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reat Britain / USA Institutions: 32,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German Institutions: 11,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Staff: ~7.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Local and foreign privat shareholders: 32,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Other foreign shareholders: 5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Shareholder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2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Vodaf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ered the British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What can </a:t>
            </a: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do better than the two companies together?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Cost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Rea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760" y="1523520"/>
            <a:ext cx="4647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will expand much faster alone and has the better strate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9900"/>
                </a:solidFill>
                <a:latin typeface="Times New Roman"/>
              </a:rPr>
              <a:t>Mannesman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is worth much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he merger brings many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4572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Times New Roman"/>
              </a:rPr>
              <a:t>The Take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</a:rPr>
              <a:t>22. Octo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don newspaper „Times“ reported about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irTouch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ntions on taking over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or 120 billion D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4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s 43,7 own shares for one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nesmann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h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9. November 1999: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de-DE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odafone‘s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fer is enlarged to 53,7 own shares (= 242 billion D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23:11:09Z</dcterms:created>
  <dc:creator>Stoffel</dc:creator>
  <dc:description/>
  <dc:language>en-US</dc:language>
  <cp:lastModifiedBy>Stoffel</cp:lastModifiedBy>
  <cp:lastPrinted>2000-03-02T11:29:24Z</cp:lastPrinted>
  <dcterms:modified xsi:type="dcterms:W3CDTF">2000-03-22T22:06:56Z</dcterms:modified>
  <cp:revision>22</cp:revision>
  <dc:subject/>
  <dc:title>The History of Mannesmann</dc:title>
</cp:coreProperties>
</file>