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572-6EB2-4179-A673-BD2E6166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BEB-F869-4EB5-AF42-A013BCD6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773-69E9-45DD-A490-5DDCBBBD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D8E-7BA2-4A5C-BC4C-85F72E45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05F-6012-4548-A65C-70FCCBA2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94F-1E78-4AFA-ABBF-7D0FE0F6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BA0-7535-4B60-96A6-85452A46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C12-BE04-497B-A3F6-2D227A30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CAC-7C47-4384-A9E0-EC84A593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0B5-A20D-426E-A0E4-16636ADF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496-95C1-4FA8-AAFA-9D0937B4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941-9714-4F62-820D-FFF7F571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C1CC-3E93-43BB-B601-92D62E1E78EC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gas.at.tf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PACT-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ypenrad und Nadel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N-IMPACT-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hermo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intenstrahl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Fotoelektrische Drucker (Las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5AE-73FF-48C7-8769-3E54FE0849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serdruck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981080"/>
            <a:ext cx="83818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Laserdrucker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arbeiten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 seitenorienti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Seite vor Druck im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Arbeitsspei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A4 - Seite benötigt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 ca.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1,2 MB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Spei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B76-3745-452B-8836-F8F6FA96C2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029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rsicht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752480"/>
            <a:ext cx="8076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er-Drucker produzier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schädlich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Z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fährlich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zol u. Styr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bereits in geringer Dosieru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schädli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Räum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reichend lüf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BD9-215B-43FA-A95D-1BFBD4931E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Times New Roman"/>
              </a:rPr>
              <a:t>Home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imes New Roman"/>
              </a:rPr>
              <a:t>Weitere Arbeiten und vieles mehr auf meiner Homepage: </a:t>
            </a:r>
            <a:r>
              <a:rPr b="0" lang="de-AT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migas.at.tf</a:t>
            </a:r>
            <a:r>
              <a:rPr b="0" lang="de-A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F05-9140-4C15-9306-F221008266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Ü b e r s i c h 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1523880"/>
            <a:ext cx="342900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ACT-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962520"/>
            <a:ext cx="380988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nrad-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14240" y="2895480"/>
            <a:ext cx="205740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895480"/>
            <a:ext cx="198108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3962520"/>
            <a:ext cx="380988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del-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68A-E7D8-4898-AF06-B664BB60DA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apenrad und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362320"/>
            <a:ext cx="64771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nrad-Druck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nur mehr selten in Gebra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eldruck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 Firmen, zuverlässig und preisgünsti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urchschläge mög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uckgeschwindigke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a 80 - 600 Zeichen pro Sek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944-88BE-4CA1-BC88-0CE633A562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N-IMPACT-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362320"/>
            <a:ext cx="82296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uppe der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schlagfrei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teroberung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extrem lei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sehr schne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gute Druckqualitä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850-8A5A-4951-BEC0-78AB4B003E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Der Thermo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905120"/>
            <a:ext cx="77724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sdruck von digitalen Bild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hermo-Transfer-Druck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: spezielle Farbfolie wird unter Thermodruckkopf durchgefüh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hermo-Sublimations-Druck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: Wachs wird verdampft und dringt in Spezialpapier 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rilliante Farben        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sehr te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CDE-D62A-4EAB-9BD6-EC982D6ADA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) Tintenstrahl-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286000"/>
            <a:ext cx="8534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 Heimbereich beliebtester 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ringer Anschaffungspre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ehnliches Schriftbi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he Druckgeschwindigke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682-134C-49DC-BC9D-92A1DE2E33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Bubble-Jet-Verfah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380880" y="2133720"/>
            <a:ext cx="3886200" cy="331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72000" y="2286000"/>
            <a:ext cx="4572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rbeitet mit Hitze und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ebensdauer Druckkopf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200 mio. Zeich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entspricht ca 50 000 Seit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Druckkopf in Tintenpatron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integrier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BC2-4F83-44A0-A4CD-CDCB36A12F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iezo - Verfah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2362320"/>
            <a:ext cx="4343400" cy="2573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1905120"/>
            <a:ext cx="4572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sentlich höher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Lebensdau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. 2 Mrd. Zeich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= 500 000 S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neller als Bubble -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jeder Düse ei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Piezo- Keramik-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C18-C2F3-4954-9573-00EF0E8C50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 Fotoelektrische Drucker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L a s e r  /  L E D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28600" y="2133720"/>
            <a:ext cx="4114800" cy="3449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572000" y="1752480"/>
            <a:ext cx="4572000" cy="41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serdrucker biete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höchste Qualität (T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ßerordentlich hoh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ruckgeschwind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beitet wi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xerografische Fotokopi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wendiges Spiegel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ystem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8CF-48F7-4D93-9B85-71171F0D2E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19:07:33Z</dcterms:created>
  <dc:creator>GASPERL</dc:creator>
  <dc:description/>
  <dc:language>en-US</dc:language>
  <cp:lastModifiedBy>Michael</cp:lastModifiedBy>
  <dcterms:modified xsi:type="dcterms:W3CDTF">2003-04-15T23:37:54Z</dcterms:modified>
  <cp:revision>21</cp:revision>
  <dc:subject/>
  <dc:title>Kein Folientitel</dc:title>
</cp:coreProperties>
</file>